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CA1-63E6-48EB-A598-A3B83D29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40C-E2B9-4536-948D-F0B0570D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BF0-CB85-4226-BAB2-43836B69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BED-D145-4808-87F8-41FB24B0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754-A9DD-41D1-8B34-54A44D1D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0658-1A89-4437-AB33-CD84600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26B0-87A1-4630-BAE3-A85E581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B1C-CEBE-4FCE-A94E-36B084DA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9E8F-28A5-409C-913B-119BAE7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51D9-40A4-477D-839D-E378991F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150-6EB4-4B2E-A44E-00A831F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143-59E9-49BB-923E-34BA03B6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8A9-64E7-4A7E-ADA3-BD74203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014B-C956-43D8-BCDE-F7006A3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B2E3-A481-49F6-9854-802E7F1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64E2-0511-4909-9390-B8AE57ED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8A97-6084-40FA-987D-173336E0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5D95-6EDD-473D-B8A9-F6A60F6E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0894-353E-4331-9DD6-9CFCC6D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3BE2-2E8E-4938-995E-81F162D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22A6-FB72-477E-9C9E-A86E1F2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99D2-E314-4672-AA71-5A2F7D0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D47-CF82-44BC-AEA8-631997E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CEFA-81F8-4AA2-91DD-BF8432C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CAD9-3229-4954-B1A4-F879F95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D1E9-94C4-476E-A2E0-89BC0D2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2ED7-E887-4FF5-8D59-B1C4623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72EB-EB67-42D5-90D4-6AACEDD5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4303-0ED4-4992-BA15-1F86AD68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4331-0636-47D8-80AA-3C1D3D66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B903-0C4F-4C99-A4A7-61C2F29C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4DD4-D5A3-4ABA-9C15-8720FD8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B736-B78F-410B-AB8A-0F389E7F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583-728D-4F8F-A49C-D18739C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DAE5-8889-4DAC-AEF0-BE175A21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B51F-579A-4C09-83A6-9C54518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E76B-0DDB-4BA7-B32D-F48A3D68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AE35-B72E-4426-90B3-808C43D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FC2C-347D-4045-80D2-0410C5A1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A7EC-A9EC-47E2-B600-144C7F0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7BED-118A-4546-AE33-A6E9F0D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C343-2B7E-49B5-96BE-085736D4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331B-7177-4CE4-BD6F-723C3FB3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1A13-DF5A-4188-9A28-09180F90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0BE-AE0A-44AB-A89F-398B0D73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9133-FC2A-49A7-A9CE-F15EBD50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5CA9-BFFC-47D5-93F7-BD4E393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424F-D9CC-4A9B-9379-9C82151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5419-09C1-4A10-9BDF-DB87C65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FFAC-0A19-4A8D-BEE9-A8311E2A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D916-527D-42B2-850F-133BB10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1660-5817-46D9-AA58-7A73B92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C9FD-4B0C-48E6-9D63-7B7F5DE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A002-3D3F-4763-BB4F-EDA3D84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83EB-722C-47B6-A671-09DDE9F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650-33DB-4D60-AA4D-94F0BCCD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8E51-E2C7-4E25-B08D-B04D9B9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72F9-4481-4C43-9E67-1C284F9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95E5-9AC7-4B6A-A355-5353D45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C3B3-1C71-444B-8C65-3CC8058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4F85-D559-47E6-8CED-60D12650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FFCE-A64A-4BB5-891B-967D1C2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AC0E-A04F-4D51-B08E-373AF013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6B79-B1DE-471A-9F08-2BEB32D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FCE3-6DD7-43F4-9CA6-8C41355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FA37B-B8FF-4389-952A-D9F8554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12D-7BED-4EFB-9D33-3B77027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A80A-9DA2-4759-ACDE-D5569D9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B054-AA49-4E4F-BDAF-EBDAEE67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9659-18B1-414A-AC41-71D36977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2BD2-9D79-4F9B-9F0A-02184AE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37F79-7E05-40AE-B02A-BE6A3E0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7144-A8F7-4A5D-B8B6-D24ACA7C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8B86-A1E9-461E-8CBA-0467130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137C8-8C9C-417D-9BB5-69A0ADB9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B81E-41A7-4784-B92A-A99DA96B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3471-D8DD-4D46-A370-3C9EA6E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773-D040-4340-A515-DA5109E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9E1F-DAC3-495F-A9E1-C8B8137D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78DD0-1332-4226-9967-63B11FD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C52D-9351-4633-9643-4637042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16FA-2C60-4E8B-941C-411510E9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287E-2E6B-42D1-BE7D-A1688A87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4D95-1401-47E0-82CD-395060FE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A43E-E4E1-492F-9A02-8797D6F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700E-531E-463F-8E26-B69042B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3CA9-0DA9-4AF2-84BE-6C9B9F1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E7312-C3CF-46A2-BBF9-6CF33F9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034-4F3E-4605-96DF-70CBA89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FE25-ADD3-4A78-8D83-05E515BF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DB67D-838B-4E69-A18F-A3F2969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967C5-60C6-41CC-ADC0-0B37C45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BB83E-1CCB-4CE9-A9C1-B0F0F78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3FF84-068B-4C3B-A93A-4D8D147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628F-3B10-4F08-9C48-DA78387A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E7FF6-294A-4177-8FE9-DE0A26B4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235-13F9-4F76-B48F-032681EA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A0E-904C-4274-A04A-13889FDD0E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1B0-1F62-447F-AC1F-F4621C40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E1B6-2150-4121-8131-F230F1AC81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350-A138-4196-999B-D88D7F8C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ECFA-0960-4C6B-AA33-ABB064AC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7C5-5F13-473E-85C1-EF19054C99D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B68-2CD7-491F-BB0A-2B4B9F72361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2511360" y="2170080"/>
            <a:ext cx="6291360" cy="3402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rcRect l="0" t="0" r="5463" b="0"/>
          <a:stretch/>
        </p:blipFill>
        <p:spPr>
          <a:xfrm>
            <a:off x="304920" y="162000"/>
            <a:ext cx="3124080" cy="5030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228600" y="541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"Good friends in three countries": Japanese propaganda poster from 1938 promoting the cooperation between Japan, Germany, and Ital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2193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6480" indent="-57132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nk about our last unit, World Between the Wars (1920s-30s)…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hy were the countries we studied willing to go to war by 1939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60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662280" cy="43434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5867280" y="5867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193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78880" indent="-51984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ink about our last unit, World Between the Wars (1920s-30s)… why were the countries we studied willing to go to war by 1939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8880" indent="-51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8880" indent="-51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With an elbow buddy… Fill in A&amp;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rainstorm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REE specific reasons from the 1920s-30s that countries wanted to BETTER their way of lif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Century Gothic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rainstorm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HREE specific reasons from the 1920s-30s that countries wanted to PROTECT their way of lif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38880" indent="-45072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66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Left-Right Arrow 8"/>
          <p:cNvSpPr/>
          <p:nvPr/>
        </p:nvSpPr>
        <p:spPr>
          <a:xfrm>
            <a:off x="3124080" y="3276720"/>
            <a:ext cx="3276720" cy="1600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losely connected, but different…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th a NEW partner… list characteristics of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Left-Right Arrow 8"/>
          <p:cNvSpPr/>
          <p:nvPr/>
        </p:nvSpPr>
        <p:spPr>
          <a:xfrm>
            <a:off x="3124080" y="3276720"/>
            <a:ext cx="3276720" cy="1600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losely connected, but different…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30492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orm of government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which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government is suprem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dividuals have few right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otal contro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f the government rests in the hands of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ne or few pers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Any ruler can become totalitarian,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whether elected or no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. TOTALITARIANISM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ASCIS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Straight Connector 4"/>
          <p:cNvSpPr/>
          <p:nvPr/>
        </p:nvSpPr>
        <p:spPr>
          <a:xfrm flipV="1">
            <a:off x="838080" y="1752480"/>
            <a:ext cx="7543800" cy="76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Straight Connector 5"/>
          <p:cNvSpPr/>
          <p:nvPr/>
        </p:nvSpPr>
        <p:spPr>
          <a:xfrm>
            <a:off x="4876920" y="1828800"/>
            <a:ext cx="7596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029200" y="25909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itical party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preached that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ation and the race were more important than the individual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Fascists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won elec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frightening people into supporting them and their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0492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form of government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which the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government is suprem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dividuals have few right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otal contro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f the government rests in the hands of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ne or few pers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Any ruler can become totalitarian,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whether elected or no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140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ading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Class (5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swer Questions 1&amp;2, start filling out event/timeline notes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Partner (10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ish event/timeline notes during the video – 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Individual (45 mi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37242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ow did the social, political, and economic developments change the lives of people in the 1920s and 1930s?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ue TUESDAY, April 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paragraph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1520" y="2971800"/>
            <a:ext cx="38289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ow did the social, political, and economic developments change the lives of people in the 1920s and 1930s?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ue TUESDAY, April 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paragraph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 countries minimum (3+ =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exceeding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expecta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 reasons for each Social/Political/Ec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different countries within these categor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X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 U.S. &amp;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Economic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Britain &amp;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olitica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U.S. and Germany for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ocia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spcBef>
                <a:spcPts val="49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+ reasons =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exceed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expecta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se your cheat sheet! That’s what it’s for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n’t let this be you on Monday night…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1427040" y="2133720"/>
            <a:ext cx="619308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quering this unit with a TEST – multiple choice, short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2085840" y="2895480"/>
            <a:ext cx="4695840" cy="37753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304920" y="5410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soldiers raise the flag at Iwo Jim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52280" y="129492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 a blank piece of paper, skip five lines and then make a chart like this one that fills the rest of the p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Straight Connector 4"/>
          <p:cNvSpPr/>
          <p:nvPr/>
        </p:nvSpPr>
        <p:spPr>
          <a:xfrm flipV="1">
            <a:off x="685800" y="3962160"/>
            <a:ext cx="7543800" cy="7596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Straight Connector 5"/>
          <p:cNvSpPr/>
          <p:nvPr/>
        </p:nvSpPr>
        <p:spPr>
          <a:xfrm>
            <a:off x="4267080" y="1981080"/>
            <a:ext cx="76320" cy="4648320"/>
          </a:xfrm>
          <a:prstGeom prst="line">
            <a:avLst/>
          </a:prstGeom>
          <a:ln w="28440">
            <a:solidFill>
              <a:srgbClr val="7ee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Content Placeholder 2"/>
          <p:cNvSpPr/>
          <p:nvPr/>
        </p:nvSpPr>
        <p:spPr>
          <a:xfrm>
            <a:off x="457200" y="2133720"/>
            <a:ext cx="8686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Content Placeholder 2"/>
          <p:cNvSpPr/>
          <p:nvPr/>
        </p:nvSpPr>
        <p:spPr>
          <a:xfrm>
            <a:off x="533520" y="2057400"/>
            <a:ext cx="3809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495680" y="1981080"/>
            <a:ext cx="38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533520" y="4191120"/>
            <a:ext cx="3809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Content Placeholder 2"/>
          <p:cNvSpPr/>
          <p:nvPr/>
        </p:nvSpPr>
        <p:spPr>
          <a:xfrm>
            <a:off x="4724280" y="4191120"/>
            <a:ext cx="3810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bove your chart (not IN your chart…),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brainstorm a list of reasons that people or countries go to wa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81520" cy="3797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76320" y="626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soldi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r is usually fought for one (or both) of the following reas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improve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protect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763720" cy="3962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6248520" y="6095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Germany is free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13716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improve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o protect their way of lif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spcBef>
                <a:spcPts val="649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ith a partner,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share your list of reasons and then label each reason as either </a:t>
            </a:r>
            <a:r>
              <a:rPr b="1" lang="en-US" sz="2600" spc="-1" strike="noStrike">
                <a:solidFill>
                  <a:srgbClr val="43f21a"/>
                </a:solidFill>
                <a:latin typeface="Century Gothic"/>
              </a:rPr>
              <a:t>IMPROVE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or  </a:t>
            </a:r>
            <a:r>
              <a:rPr b="1" lang="en-US" sz="2600" spc="-1" strike="noStrike">
                <a:solidFill>
                  <a:srgbClr val="43f21a"/>
                </a:solidFill>
                <a:latin typeface="Century Gothic"/>
              </a:rPr>
              <a:t>PROT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38440" cy="56671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4876920" y="626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American propaganda post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1:07:08Z</dcterms:created>
  <dc:creator>Meri</dc:creator>
  <dc:description/>
  <dc:language>en-US</dc:language>
  <cp:lastModifiedBy>MCPASD</cp:lastModifiedBy>
  <dcterms:modified xsi:type="dcterms:W3CDTF">2012-04-05T14:32:20Z</dcterms:modified>
  <cp:revision>21</cp:revision>
  <dc:subject/>
  <dc:title>WORLD WAR II</dc:title>
</cp:coreProperties>
</file>